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7E09-9F85-40B5-A431-6456361475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CITS (Undertakings for Collective Investment in Transferable Securitie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Giovannini Reports’ three spheres of difficulties within the post trading secto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echnical requirements and industry practices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axation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legal certaint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ring and Settlement Advisory and Monitoring Expert Group ("CESAME"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Monitoring Group meets its public intere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y supporting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high quality international standards for auditing, assurance, ethics and education for professional accountant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and by exchanging views relating to international audit quality and to regulatory and market development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an impact on auditin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is project is the third step in th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ification of accounting rules for SMEs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and other companies in the scope of the Fourth and Seventh Company Law Directives (“Accounting Directives”), which began with a fast-track proposal in 2008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1A0E-941B-406F-B90B-D77F386F2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8B65-179A-40B1-B2D7-D8111BB0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3C46-1912-41AC-A38B-206EC8B20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0377-B9F0-4375-BCF8-369D9FB69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2FE5-E8E0-4F08-B492-A0C1EC3A7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223D-9ED7-4A4E-8E46-393A8C0D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43BD-4C7D-4FA4-94FB-0D87E437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F238-A41C-4616-BABA-91B11898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3EB5-A00C-4F2E-A294-C49FC320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11D7-D18A-42A9-93B8-D78C8684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B90F-A0F1-4BEC-9DEB-5BAB7A54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473E-E1E4-4C89-8D8A-E0761205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1031-7341-425E-8E58-271EF2BB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179B-A132-47E7-8698-D4CB59E1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AB4D-19A9-42D3-9D4B-EB12E0C5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EF8E-78AB-41D8-9821-651AAF456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DE06-DCC6-43CD-92AE-85DA44437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1ED5-848A-4D6A-80B8-0D51E720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A52D-80C6-4153-8492-E647AABA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2180-D7EE-480E-AB6C-28629B44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F5F1-A921-4FF3-919D-A53F745E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9B9B-6D59-4C6B-9126-9D448FE6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89B6-0E9C-4A82-807B-D1D97F90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F890-5A89-4D71-9652-E2425AF8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4D6E-E07F-4C74-9496-C76703E62EE6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4435-D7A4-419F-A01F-3128E4FED83B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0066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  <a:p>
            <a:pPr lvl="3" marL="1371600" algn="ctr">
              <a:spcBef>
                <a:spcPts val="349"/>
              </a:spcBef>
              <a:buClr>
                <a:srgbClr val="0066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66cc"/>
              </a:solidFill>
              <a:latin typeface="Times New Roman"/>
            </a:endParaRPr>
          </a:p>
          <a:p>
            <a:pPr lvl="4" marL="1828800" algn="ctr">
              <a:spcBef>
                <a:spcPts val="300"/>
              </a:spcBef>
              <a:buClr>
                <a:srgbClr val="0066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  <a:p>
            <a:pPr lvl="5" marL="1828800">
              <a:spcBef>
                <a:spcPts val="300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  <a:p>
            <a:pPr lvl="6" marL="1828800">
              <a:spcBef>
                <a:spcPts val="300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Latest developments in the EU legislation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on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Viktorija Proskurovska, EBF Adviser</a:t>
            </a:r>
            <a:br>
              <a:rPr sz="2500"/>
            </a:b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17th edition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onaco, 18 June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Financial Supervision in Europe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(cont-d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7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a Communication on financial supervision in Europe. Proposed reform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reation of a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 composed of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, and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reation of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mments invited by 15-Jul-09.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Legislative proposals are expected in autumn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7FF0-0DEE-42C5-B9A2-EAA31DB62D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larification of the UCITS </a:t>
            </a:r>
            <a:br>
              <a:rPr sz="3000"/>
            </a:br>
            <a:r>
              <a:rPr b="1" lang="en" sz="3000" spc="-1" strike="noStrike">
                <a:solidFill>
                  <a:srgbClr val="0066cc"/>
                </a:solidFill>
                <a:latin typeface="Times New Roman"/>
              </a:rPr>
              <a:t>Regulations Regim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8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initiated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larification of the UCITS regulations regime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in particular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s regards the liability of depositori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will be launched before the end-Jun-09 to deal with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consistencies in the applic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of the UCITS directive across MSs that lead to a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nlevel playing field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visions of the Directive on Alternative Investment Fund Managers (AIFM) are suggested to be extended to UCI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046A-CE3A-4E3F-AFC3-2F1D578017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 Framework for Managers of Alternative Investment Fund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proposed a Directive on Alternative Investment Fund Managers (AIFM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im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to create a comprehensive &amp; effective  regulatory and supervisory framework for AIFM in the EU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oposed Directive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ill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require all AIFM be subject to</a:t>
            </a: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harmonised regulatory standards;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nhance transparency of the activitie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nable MSs to improve the macro-prudential oversight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overcome gaps and inconsistencies in regulatory frameworks at national level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47DF-C503-404A-8993-84B0582D27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8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ommunication on Packaged Retail Investment Product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conclusions of th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mmunication on Packaged Retail Investment Produc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onclusion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duct information requirements and rules on product sales need to be improved and made more coheren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poses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 new, horizontal legislative approach for product disclosures and sales processes for all packaged retail investment produc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orks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legislative proposal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; to report by the end of 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1DBA-2DC8-4D33-98D9-84ED6E7DE6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onsultation on Hedge Fund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2-Ma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finalised a public Consultation on Hedge Fund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ain areas covered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ystemic risk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Market integrity and efficiency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Risk management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ransparency towards investors and investor protect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&amp;27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organised a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High-Level Conference on Private Equity and Hedge Funds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s a final step of the consultation proces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1298-4A22-4002-B9C5-BB22193792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Times New Roman"/>
              </a:rPr>
              <a:t>Investor Compensation Schemes Directive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 call for evidence on the review of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pplication of the Investor Compensation Schemes Directive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e call addressed, </a:t>
            </a:r>
            <a:r>
              <a:rPr b="0" i="1" lang="en-US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Scope of the directive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amount of compensation and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funding of the compensation scheme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echnical aspects hampering efficient &amp; timely functioning of the sche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reatment of money market fund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8-Apr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0C87-DD6E-4492-A52B-EC893BABD9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tail Market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onitoring Exercise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8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questionnaire aiming to monitor the EU Retail Marke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t will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llect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qualitative inform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bout problems arising from current national regulatory conditions that apply to retail services across the MSs, and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fficiency of these rul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meeting their underlying public interest objectiv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esponses invited by 5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e questionnaire will feed into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tail Market Monitoring repor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to be published before Nov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107F-11A1-4DBB-AB92-C4C310477D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ccess to a Basic Bank Account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public Consultation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inancial inclusion: Ensuring access to a basic bank accoun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sultative document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escribes the levels, causes and consequences of financial exclusion in the EU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resents various policy solutions to address financial exclusion that exist in some MS,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Consultation closed on </a:t>
            </a:r>
            <a:r>
              <a:rPr b="0" lang="en-US" sz="2600" spc="-1" strike="noStrike">
                <a:solidFill>
                  <a:srgbClr val="0066cc"/>
                </a:solidFill>
                <a:latin typeface="Times New Roman"/>
              </a:rPr>
              <a:t>6-Apr-09.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3A96-0512-4AD8-AB40-503E4BC522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lternative Dispute Resolution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1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Consultation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on Alternative Dispute Resolution (ADR) in the area of financial servic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objectiv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as to seek views on how ADR schemes in the area of financial services, providing consumers with individual redress, could be further improved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27-Feb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01CD-A4F6-4473-8E8E-9CB23545F0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gulation of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‘Non-Credit' Institution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study that shows varying national approach to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gulation of 'non-credit' institutions in mortgage marke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t shows that in the majority of MS, lenders operating outside the EU legal framework for credit institutions are regulated and supervised by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national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uthorities, and that their national market share is small compared with that of fully-fledged credit institution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mments on the study were invited by 28-Feb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23E4-CA62-4439-BED7-A43239341D2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38 Recent Develop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Services and Retail Banking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20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Markets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11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ccounting and Audit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   7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8BFD-A6BD-4735-AA72-C0F2F73CB4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New Industry Rules on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 Account Switching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elcomed the European Banking Industry Committee's adoption of a set of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Common Principles for Bank Account Switch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inciples clarify the roles of the ‘new’ bank and the ‘old’ bank in situation when consumer wishes to change bank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inciples will apply in each MS as of 1-Nov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D551-9374-4AF8-B0CC-56E9D6A5D5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Financial Markets 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11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3778-F6F1-4478-A314-705A037236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Directors' Remuneration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dopted a Recommendation on the regime for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uneration of director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of listed compani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new Recommendation completes the previous ones by specifying certain aspects of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structure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of directors’ remuneration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nd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process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of determining directors’ remuneration, including shareholder supervis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ill re-examine the recommendations in one year’s time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F1A2-429F-461F-8554-662EA4E031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39640" y="259920"/>
            <a:ext cx="655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muneration of Risk-Taking Staf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in Financial Institution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 Recommendation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uneration of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isk-taking staff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the financial services sector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t focuses on four areas of remuneration policy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tructure of pay (link back to risk-management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overnance (internal transparency, clarity, documented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isclosure (to stakeholders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upervis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Legislative proposals will follow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ringing remuneration schemes within the scope of prudential oversight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C243-E9B2-44F8-8DB0-8D6D212718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Foundation Statute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ublic Consultation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difficult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oundations face when operating cross-border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hould the outcome be in favour of European Foundation Statue, the aim would be to use a single legal form instead of up to 27 national ones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uropean Foundation would be parallel to the national legal forms and its use would be optional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15-May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92CF-C26D-4763-9488-AFD5424A0EE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gulation on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redit Rating Agenci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3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P and Council approved the proposal on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posed Regulation on Credit Rating Agencies (CRA’s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RA’s will be expected to comply with strict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tandards of integr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qual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ransparenc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will be subject to ongoing supervision of the Committee of European Securities Regulator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gulation proposes a set of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igorous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 rul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and an effective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surveillance regime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hereby regulators will supervise credit rating agenci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5E24-1EB8-415A-9CBA-B6AA03202EB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view o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Market Abuse Directive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all for evidence on its review of the application of the Market Abuse Directive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as reviewing certain elements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cope of the markets and financial instrument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ability of listed issuers to delay disclosure of inside information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isclosure of inside information by issuers of commodity derivative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10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77E5-12D5-403C-BEFD-FE43ED6CAAA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New Legal Framework for Intermediated Securiti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Consultation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harmonisation of the legal framework for securities holding and transaction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y the end of 2009, EC intends to introduce a legislative proposal to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ncrease legal certainty &amp; efficiency of securities holding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mprove protection of investors' right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11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F677-1539-4AAE-8D5C-84F36C4E53D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Harmonisation o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ecurities Law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6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consultation on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harmonisation of Securities Law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with relation to the thre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iovannini barrier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ddressed questions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were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holding and disposition of securities held in securities account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ercise of investor's rights flowing from securities through a "chain" of intermediaries, in particular in cross-border situations;</a:t>
            </a:r>
            <a:r>
              <a:rPr b="0" lang="ru-RU" sz="24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11-Jun-09. The EC will make a legislative proposal by the end-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ADAD-2A3A-4832-B3B1-8886996AB7A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Harmonised Solutions to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ross-Border Barriers</a:t>
            </a:r>
            <a:r>
              <a:rPr b="0" lang="ru-RU" sz="26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’s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learing and Settlement Advisory and Monitoring Expert Group issued a report on removing industry-related barriers to the cross-border clearing and settlement of securities transaction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report gives an overview of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work by the industry to dismantle the six industry-related "Giovannini Barriers" to post-trading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tate of play on 9 such Barriers attributed to the public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other pertinent topics related to post-trading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2FF8-EF10-4D5E-B3B5-4960AD9C464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Financial Services and </a:t>
            </a:r>
            <a:br>
              <a:rPr sz="3800"/>
            </a:b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Retail Banking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20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0F57-1990-444D-9155-AC7183D3A4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State Ai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vided guidance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reatment of asset relief measures by MS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guidance provides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ethodologies of valuation of the impaired assets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necessary remuneration of the State for the asset relief and the procedural steps that will be followed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criteria that will be used to evaluate the State aid given to the bank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771E-B290-4446-8856-28A5D564C5F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entral Counterparty Clearing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nternational Swaps and Derivatives Association and the European Banking Federation have committed to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se of Central Counterparty Clearing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(CCP)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for Credit Default Swap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CDS) in the European Union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signatories committed to cooperating with all relevant bodies in the financial industry to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stablish the EU-based central clear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for eligible EU contract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by end-Jul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30E6-FDEE-44EF-9C8A-9415918B8DD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Action Plan on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-Signatures and e-Identification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dopted the Action Plan on e-signatures and e-identification to facilitate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vision of cross-border public servic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the Single Marke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ason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for the Action Plan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Public authorities offer increasingly more e-services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ir implementation is national-oriented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t creates e-problems for the EU Single Market,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Ss run the risk of not complying with Services Directive and the Public Procurement Directiv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AC81-1CCB-449B-9A41-9AE65372BE3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Accounting and Auditing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7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C04A-1AF5-4CE1-8A90-63F4F8DF5B1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onitoring Group adopts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 Charter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onitoring Group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a group of international regulatory bodies and related organisations committed to advancing the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public interest in areas related to international audit qual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announces the adoption of a formal Charter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harter confirms the formal arrangements agreed upon by participating members and observers to meet their objective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0685-DC49-4D80-B268-9636CDBF039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International Auditing Conference with Third Countri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hosted a high-level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Auditing Conferenc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n Brussels on 10-Dec-08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ference focused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how to enhance international cooper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mote auditing public oversight systems in third countr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D83D-3A69-401B-B76B-2BCDBE654C0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tandards Advice Review Group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ppointed three new members of the Standards Advice Review Group (SARG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SARG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ask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s to advise EC on the endorsement process of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ternational Financial Reporting Standards (IFRS), and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ternational Financial Reporting Committee Interpretations (IFRICs).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BE5A-3B6D-4CD3-8F12-0452CBF7EA6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inancial Reporting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in a Changing World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7&amp;8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hosted a Conference on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Financial Reporting in a Changing World,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Brussel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ference addressed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policy issues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in financial reporting;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accounting issues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raised by the financial crisis: pro-cyclicality of financial statements and possible remedies, i.e. dynamic provisioning;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possible issues for the </a:t>
            </a: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future direction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of financial reporting (broader debate on corporate governance).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3A9A-1FEE-4245-98CD-1BD8B5035D3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view of the 4</a:t>
            </a:r>
            <a:r>
              <a:rPr b="1" lang="en-GB" sz="30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 and 7</a:t>
            </a:r>
            <a:r>
              <a:rPr b="1" lang="en-GB" sz="30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 Company Law Directiv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on the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view of the Fourth and Seventh Company Law Directiv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aims at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aising issues relating to 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modernisation and simplification of the Accounting Directiv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increasing the clarity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of the text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for lawmakers and users in general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30-Apr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9337-CA39-4D78-819E-4F0BA396A65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quivalence in relation to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Third Country GAAP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adopt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measures granting equivalence to the Generally Accepted Accounting Principles (GAAPs) of certain third countries as from January of 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AAPs of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S, Japan, China, Canada, South Korea and Ind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re found to be equivalent to International Financial Reporting Standards (IFRS) as adopted by the EU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CD7F-DCFF-4723-86FE-76AD81E9EE1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onsultation on Possible End-Date for SEPA Migration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66cc"/>
                </a:solidFill>
                <a:uFillTx/>
                <a:latin typeface="Times New Roman"/>
              </a:rPr>
              <a:t>8-Jun-09</a:t>
            </a:r>
            <a:r>
              <a:rPr b="0" lang="en-GB" sz="32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Consultation on possible deadlines for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igration of existing payment produc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i.e. credit transfers and direct debits)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o the new SEPA produc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lear deadlines for migration signify that SEPA migration is a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rreversible proces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thus helping to incentivise both industry and users to speed up migrat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Feedback from stakeholders invited by 3-Aug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733D-ED58-46E6-B38B-E0F63CC102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Burden Reduction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or Micro Entiti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ut forward a new proposal allowing MSs to completely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bolish financial reporting obligations for the EU's smallest compan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ggregate administrative burden reduction potential is estimated at around € 6.3 bill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Micro entities fulfil two out of the three following criteria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balance sheet total of EUR 500.000,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net turnover of EUR 1.000.000 and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an average number of employees during the financial year of 10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73B6-34AE-4235-AE9B-3731C9CDD80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Thank you for your attention!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030C-EE9D-4EE3-A45D-4A901A27CCC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-money and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ross-Border Payments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24-Apr-09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P adopted 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o legislative proposals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the current rules governing </a:t>
            </a:r>
            <a:r>
              <a:rPr b="1" lang="en-GB" sz="2700" spc="-1" strike="noStrike">
                <a:solidFill>
                  <a:srgbClr val="0066cc"/>
                </a:solidFill>
                <a:latin typeface="Times New Roman"/>
              </a:rPr>
              <a:t>cross-border payments</a:t>
            </a: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: the Regulation will apply as of 1-Nov-09, the final deadline for the transposition of the Payment Services Directive.</a:t>
            </a: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the conditions for issuing </a:t>
            </a:r>
            <a:r>
              <a:rPr b="1" lang="en-GB" sz="2700" spc="-1" strike="noStrike">
                <a:solidFill>
                  <a:srgbClr val="0066cc"/>
                </a:solidFill>
                <a:latin typeface="Times New Roman"/>
              </a:rPr>
              <a:t>electronic money</a:t>
            </a: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 in the EU: Directive to be transposed by 2011 at the latest.</a:t>
            </a: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oth legal texts will now be forwarded to the EU Council for final adopt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AF82-0447-48A3-B529-20E41505C5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Payment Systems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arket Expert Group (PSMEG)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set up a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SME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of 50 members) to assist in the preparation of policy in the field of payment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roup’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iss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ssist the Commission in the preparation of legislative acts or policy initiatives on payment system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rovide insight on the practical implementation of these policie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change views on the latest best practices; and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nsure monitoring of potential issues of concern to the market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2EF9-36F6-4173-A5CB-49CF87B348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moving Barriers to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lectronic Invoicing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5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xpert Group on Electronic Invoicing published it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terim repor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which sets out a vision for a European Electronic Invoicing (EEI) Framework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port outlines a number of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barrier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to e-invoicing, the electronic transfer of billing and payment information between supplier and buyer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roup plans to draft a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code of practice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for the guidance of trading parties, their service providers and tax authorities and to develop a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network model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which supports interoperability, choice of services, and European reach for the exchange of invoic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166E-5AF6-4DA9-BD23-F9C6771FB9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Deposit Guarantee Schem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reviewing the Directive on Deposit Guarantee Schem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im is to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nsure greater effectiveness of the Directive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spond adequately to any deficiencies or risks as evidenced in the current financial crisi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s on 27-Jul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ill submit a report, and if appropriate, legislative proposals by the end of 20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8251-D22C-4A96-A2F3-2F77A10546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Financial Supervision in Europe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5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High-Level group on Supervision in the EU published the De Larosière repor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on the improvement of supervision for the financial services sector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7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held a High Level Conference “Towards a new supervisory architecture in Europe”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E44C-1721-4DBF-B8A1-33E2BEBCE1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4:54:20Z</dcterms:created>
  <dc:creator>proskurovska</dc:creator>
  <dc:description/>
  <dc:language>en-US</dc:language>
  <cp:lastModifiedBy>proskurovska</cp:lastModifiedBy>
  <dcterms:modified xsi:type="dcterms:W3CDTF">2009-06-17T10:00:09Z</dcterms:modified>
  <cp:revision>163</cp:revision>
  <dc:subject/>
  <dc:title>Latest developments in the EU legislation on financial services</dc:title>
</cp:coreProperties>
</file>